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1520488" cy="7199313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717480" y="1240920"/>
            <a:ext cx="5362560" cy="335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978C-27BA-4C32-BBA3-9769785D361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1A10-A80F-4800-AE34-4834F7BEE10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14F4-E4D6-413D-A930-7F8FA00745C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FFD1-1CB3-4653-AC87-CE12F4F00D8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14FA-F80F-4C47-8D25-D798674D07B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B3D0-FBAB-4B71-B554-13459306FE7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3C23-D650-4310-B1C0-2B84858D8A3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7CFA-EB3E-4767-BC9D-7396F290820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75BB-F337-494A-BA81-F8EDD7CCB44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6DD7-325A-4598-9EE6-99CE6EBBE1B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717480" y="1241280"/>
            <a:ext cx="5362560" cy="3351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cs-CZ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B157-10A7-44F0-9D27-DFAE7FF756D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C123-8015-4C79-B9B1-D55E05344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FC36-C472-4C1D-B7D0-CD4DF3CBC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227E-0B06-4DD0-ADAE-1C476308D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D8EB-9713-4209-94CF-33B91B582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4AA7-DE60-444E-8647-060651025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CE9C-9D22-47F5-8DE6-B7DDEE19F7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8168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587000" y="168480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76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8168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7587000" y="3866040"/>
            <a:ext cx="33382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46E4-4AE0-4A74-87E2-196838B96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4DC2-2726-4015-A9F8-68C847D88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76000" y="287280"/>
            <a:ext cx="10367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1E36-9170-4E7B-ADDA-C7F892270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CA87-745C-438F-8F4E-1FAA9C443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88520" y="386604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AD0D-F82C-4603-9AA3-0E9C1B7FE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00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8520" y="1684800"/>
            <a:ext cx="5059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6000" y="3866040"/>
            <a:ext cx="10367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2358-FC71-426A-ABA4-CE2D816CC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256600" y="6671880"/>
            <a:ext cx="268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101B-7A80-42CF-B344-6792277C78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10367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576000" y="1684800"/>
            <a:ext cx="10367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ázek 2" descr="Logo_UTP_kompl_pop_03_2014.jpg"/>
          <p:cNvPicPr/>
          <p:nvPr/>
        </p:nvPicPr>
        <p:blipFill>
          <a:blip r:embed="rId2"/>
          <a:srcRect l="0" t="0" r="0" b="28271"/>
          <a:stretch/>
        </p:blipFill>
        <p:spPr>
          <a:xfrm>
            <a:off x="8640720" y="225360"/>
            <a:ext cx="2448000" cy="933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0" y="6696000"/>
            <a:ext cx="11520360" cy="523800"/>
          </a:xfrm>
          <a:prstGeom prst="rect">
            <a:avLst/>
          </a:prstGeom>
          <a:solidFill>
            <a:srgbClr val="707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10944360" y="6791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C8ED-424B-44B6-B03B-CBACC164781B}" type="slidenum">
              <a:rPr b="1" lang="en-US" sz="16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římá spojnice 6"/>
          <p:cNvSpPr/>
          <p:nvPr/>
        </p:nvSpPr>
        <p:spPr>
          <a:xfrm>
            <a:off x="0" y="1079640"/>
            <a:ext cx="7920000" cy="0"/>
          </a:xfrm>
          <a:prstGeom prst="line">
            <a:avLst/>
          </a:prstGeom>
          <a:ln w="5724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rázek 8" descr=""/>
          <p:cNvPicPr/>
          <p:nvPr/>
        </p:nvPicPr>
        <p:blipFill>
          <a:blip r:embed="rId1"/>
          <a:stretch/>
        </p:blipFill>
        <p:spPr>
          <a:xfrm>
            <a:off x="719280" y="622440"/>
            <a:ext cx="448128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Obrázek 5" descr="Logo_UTP_kompl_pop_03_2014.jpg"/>
          <p:cNvPicPr/>
          <p:nvPr/>
        </p:nvPicPr>
        <p:blipFill>
          <a:blip r:embed="rId2"/>
          <a:srcRect l="0" t="0" r="0" b="27336"/>
          <a:stretch/>
        </p:blipFill>
        <p:spPr>
          <a:xfrm>
            <a:off x="7777080" y="635040"/>
            <a:ext cx="2946600" cy="1139760"/>
          </a:xfrm>
          <a:prstGeom prst="rect">
            <a:avLst/>
          </a:prstGeom>
          <a:ln w="0">
            <a:noFill/>
          </a:ln>
        </p:spPr>
      </p:pic>
      <p:sp>
        <p:nvSpPr>
          <p:cNvPr id="124" name="Obdélník 11"/>
          <p:cNvSpPr/>
          <p:nvPr/>
        </p:nvSpPr>
        <p:spPr>
          <a:xfrm>
            <a:off x="360360" y="1943280"/>
            <a:ext cx="1065672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707173"/>
                </a:solidFill>
                <a:latin typeface="Arial Narrow"/>
                <a:ea typeface="Calibri"/>
              </a:rPr>
              <a:t>STUDIE PROVOZNÍCH VLASTNOSTÍ OTOPNÝCH TĚ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  <a:ea typeface="Calibri"/>
              </a:rPr>
              <a:t>Školení topenářů Kutná H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  <a:ea typeface="Calibri"/>
              </a:rPr>
              <a:t>11. 10.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7173"/>
                </a:solidFill>
                <a:latin typeface="Arial Narrow"/>
                <a:ea typeface="Calibri"/>
              </a:rPr>
              <a:t>Ing. Jindřich Boháč a Ing. Roman Vavřička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576360" y="2174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Porovnání konstrukčních vlastnos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655640" y="1943280"/>
            <a:ext cx="835344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707173"/>
                </a:solidFill>
                <a:latin typeface="Arial Narrow"/>
              </a:rPr>
              <a:t>Tři krité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Objemové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 W / l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Hmotnostní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W /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kg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Přestupní plocha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	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[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W / </a:t>
            </a:r>
            <a:r>
              <a:rPr b="1" lang="cs-CZ" sz="4400" spc="-1" strike="noStrike">
                <a:solidFill>
                  <a:srgbClr val="707173"/>
                </a:solidFill>
                <a:latin typeface="Arial Narrow"/>
                <a:ea typeface="Arial"/>
              </a:rPr>
              <a:t>m</a:t>
            </a:r>
            <a:r>
              <a:rPr b="1" lang="cs-CZ" sz="4400" spc="-1" strike="noStrike" baseline="30000">
                <a:solidFill>
                  <a:srgbClr val="707173"/>
                </a:solidFill>
                <a:latin typeface="Arial Narrow"/>
                <a:ea typeface="Arial"/>
              </a:rPr>
              <a:t>2</a:t>
            </a:r>
            <a:r>
              <a:rPr b="1" lang="en-US" sz="4400" spc="-1" strike="noStrike">
                <a:solidFill>
                  <a:srgbClr val="707173"/>
                </a:solidFill>
                <a:latin typeface="Arial Narrow"/>
                <a:ea typeface="Arial"/>
              </a:rPr>
              <a:t>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2716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503280" y="216000"/>
          <a:ext cx="7705800" cy="6826320"/>
        </p:xfrm>
        <a:graphic>
          <a:graphicData uri="http://schemas.openxmlformats.org/drawingml/2006/table">
            <a:tbl>
              <a:tblPr/>
              <a:tblGrid>
                <a:gridCol w="936720"/>
                <a:gridCol w="1224000"/>
                <a:gridCol w="647640"/>
                <a:gridCol w="504720"/>
                <a:gridCol w="863640"/>
                <a:gridCol w="504720"/>
                <a:gridCol w="863640"/>
                <a:gridCol w="503280"/>
                <a:gridCol w="720720"/>
                <a:gridCol w="936720"/>
              </a:tblGrid>
              <a:tr h="730440"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bjem [W/l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mo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[W/kg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řestupní plocha [W/m</a:t>
                      </a:r>
                      <a:r>
                        <a:rPr b="1" lang="cs-CZ" sz="16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em bod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řa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KF 1 –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58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 50 –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97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WF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48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RI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O-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A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AS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QUI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R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RM 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UR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YGI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44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DE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 PROF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50 –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KF 1 –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I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EH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LE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08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Y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720"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ovéPole 3"/>
          <p:cNvSpPr/>
          <p:nvPr/>
        </p:nvSpPr>
        <p:spPr>
          <a:xfrm>
            <a:off x="287280" y="2951280"/>
            <a:ext cx="1094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707173"/>
                </a:solidFill>
                <a:latin typeface="Arial Narrow"/>
              </a:rPr>
              <a:t>Děkuji za pozorno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Obrázek 8" descr=""/>
          <p:cNvPicPr/>
          <p:nvPr/>
        </p:nvPicPr>
        <p:blipFill>
          <a:blip r:embed="rId1"/>
          <a:stretch/>
        </p:blipFill>
        <p:spPr>
          <a:xfrm>
            <a:off x="719280" y="635040"/>
            <a:ext cx="4481280" cy="1152360"/>
          </a:xfrm>
          <a:prstGeom prst="rect">
            <a:avLst/>
          </a:prstGeom>
          <a:ln w="0">
            <a:noFill/>
          </a:ln>
        </p:spPr>
      </p:pic>
      <p:pic>
        <p:nvPicPr>
          <p:cNvPr id="156" name="Obrázek 5" descr="Logo_UTP_kompl_pop_03_2014.jpg"/>
          <p:cNvPicPr/>
          <p:nvPr/>
        </p:nvPicPr>
        <p:blipFill>
          <a:blip r:embed="rId2"/>
          <a:srcRect l="0" t="0" r="0" b="27336"/>
          <a:stretch/>
        </p:blipFill>
        <p:spPr>
          <a:xfrm>
            <a:off x="7777080" y="635040"/>
            <a:ext cx="2946600" cy="1139760"/>
          </a:xfrm>
          <a:prstGeom prst="rect">
            <a:avLst/>
          </a:prstGeom>
          <a:ln w="0">
            <a:noFill/>
          </a:ln>
        </p:spPr>
      </p:pic>
      <p:pic>
        <p:nvPicPr>
          <p:cNvPr id="157" name="Obrázek 4" descr=""/>
          <p:cNvPicPr/>
          <p:nvPr/>
        </p:nvPicPr>
        <p:blipFill>
          <a:blip r:embed="rId3"/>
          <a:stretch/>
        </p:blipFill>
        <p:spPr>
          <a:xfrm>
            <a:off x="2232000" y="5616720"/>
            <a:ext cx="889200" cy="888840"/>
          </a:xfrm>
          <a:prstGeom prst="rect">
            <a:avLst/>
          </a:prstGeom>
          <a:ln w="0">
            <a:noFill/>
          </a:ln>
        </p:spPr>
      </p:pic>
      <p:pic>
        <p:nvPicPr>
          <p:cNvPr id="158" name="Obrázek 5" descr=""/>
          <p:cNvPicPr/>
          <p:nvPr/>
        </p:nvPicPr>
        <p:blipFill>
          <a:blip r:embed="rId4"/>
          <a:stretch/>
        </p:blipFill>
        <p:spPr>
          <a:xfrm>
            <a:off x="3473280" y="5622840"/>
            <a:ext cx="889200" cy="89064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6" descr=""/>
          <p:cNvPicPr/>
          <p:nvPr/>
        </p:nvPicPr>
        <p:blipFill>
          <a:blip r:embed="rId5"/>
          <a:stretch/>
        </p:blipFill>
        <p:spPr>
          <a:xfrm>
            <a:off x="5927760" y="562284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160" name="Obrázek 7" descr=""/>
          <p:cNvPicPr/>
          <p:nvPr/>
        </p:nvPicPr>
        <p:blipFill>
          <a:blip r:embed="rId6"/>
          <a:stretch/>
        </p:blipFill>
        <p:spPr>
          <a:xfrm>
            <a:off x="7143840" y="5616720"/>
            <a:ext cx="888840" cy="888840"/>
          </a:xfrm>
          <a:prstGeom prst="rect">
            <a:avLst/>
          </a:prstGeom>
          <a:ln w="0">
            <a:noFill/>
          </a:ln>
        </p:spPr>
      </p:pic>
      <p:pic>
        <p:nvPicPr>
          <p:cNvPr id="161" name="Obrázek 10" descr=""/>
          <p:cNvPicPr/>
          <p:nvPr/>
        </p:nvPicPr>
        <p:blipFill>
          <a:blip r:embed="rId7"/>
          <a:stretch/>
        </p:blipFill>
        <p:spPr>
          <a:xfrm>
            <a:off x="4713120" y="5616720"/>
            <a:ext cx="889200" cy="888840"/>
          </a:xfrm>
          <a:prstGeom prst="rect">
            <a:avLst/>
          </a:prstGeom>
          <a:ln w="0">
            <a:noFill/>
          </a:ln>
        </p:spPr>
      </p:pic>
      <p:pic>
        <p:nvPicPr>
          <p:cNvPr id="162" name="Obrázek 12" descr=""/>
          <p:cNvPicPr/>
          <p:nvPr/>
        </p:nvPicPr>
        <p:blipFill>
          <a:blip r:embed="rId8"/>
          <a:stretch/>
        </p:blipFill>
        <p:spPr>
          <a:xfrm>
            <a:off x="8358120" y="5597640"/>
            <a:ext cx="90828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142920" y="1150920"/>
            <a:ext cx="110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Nábě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rázek 11" descr="C:\Users\JB\Dropbox\MINIB - Case Study - 2016\V Y H O D N O C E N Í\obr.4.jpg"/>
          <p:cNvPicPr/>
          <p:nvPr/>
        </p:nvPicPr>
        <p:blipFill>
          <a:blip r:embed="rId1"/>
          <a:stretch/>
        </p:blipFill>
        <p:spPr>
          <a:xfrm>
            <a:off x="2376360" y="1235160"/>
            <a:ext cx="9001080" cy="58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142920" y="1150920"/>
            <a:ext cx="110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Chladnu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ázek 9" descr="C:\Users\JB\Dropbox\MINIB - Case Study - 2016\V Y H O D N O C E N Í\obr.5.jpg"/>
          <p:cNvPicPr/>
          <p:nvPr/>
        </p:nvPicPr>
        <p:blipFill>
          <a:blip r:embed="rId1"/>
          <a:stretch/>
        </p:blipFill>
        <p:spPr>
          <a:xfrm>
            <a:off x="2735280" y="1582560"/>
            <a:ext cx="865980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brázek 4" descr=""/>
          <p:cNvPicPr/>
          <p:nvPr/>
        </p:nvPicPr>
        <p:blipFill>
          <a:blip r:embed="rId1"/>
          <a:stretch/>
        </p:blipFill>
        <p:spPr>
          <a:xfrm>
            <a:off x="3811680" y="4013280"/>
            <a:ext cx="4248000" cy="3186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142920" y="1150920"/>
            <a:ext cx="11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Experiment v laboratořích Ústavu techniky prostředí FS ČVUT v Pr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rázek 1" descr=""/>
          <p:cNvPicPr/>
          <p:nvPr/>
        </p:nvPicPr>
        <p:blipFill>
          <a:blip r:embed="rId2"/>
          <a:stretch/>
        </p:blipFill>
        <p:spPr>
          <a:xfrm>
            <a:off x="142920" y="1674720"/>
            <a:ext cx="4321080" cy="3240360"/>
          </a:xfrm>
          <a:prstGeom prst="rect">
            <a:avLst/>
          </a:prstGeom>
          <a:ln w="0">
            <a:noFill/>
          </a:ln>
        </p:spPr>
      </p:pic>
      <p:pic>
        <p:nvPicPr>
          <p:cNvPr id="135" name="Obrázek 5" descr=""/>
          <p:cNvPicPr/>
          <p:nvPr/>
        </p:nvPicPr>
        <p:blipFill>
          <a:blip r:embed="rId3"/>
          <a:stretch/>
        </p:blipFill>
        <p:spPr>
          <a:xfrm>
            <a:off x="7534440" y="1674720"/>
            <a:ext cx="3985920" cy="29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Tepelná setrvačnost při provoz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31640" y="1800360"/>
          <a:ext cx="10585440" cy="4854600"/>
        </p:xfrm>
        <a:graphic>
          <a:graphicData uri="http://schemas.openxmlformats.org/drawingml/2006/table">
            <a:tbl>
              <a:tblPr/>
              <a:tblGrid>
                <a:gridCol w="1322640"/>
                <a:gridCol w="1225440"/>
                <a:gridCol w="4363920"/>
                <a:gridCol w="1650960"/>
                <a:gridCol w="2022480"/>
              </a:tblGrid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ruh těl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zna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ový tepelný výkon [W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ozměry HxVxD [m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nvek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T 50 – přirozené vybíjení (T50 – 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3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1 x 50 x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T 50 – nucené vybíjení (T 50 – N)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1 x 50 x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KF 1 – přirozené vybíjení (NKF 1 – 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 x 178 x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KF 1 – nucené vybíjení (NKF 1 – N)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 x 178 x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N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IL NWF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5 x 178 x 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Člán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 500/110 – 10 článků (KALOR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 x 580 x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ION – 10 článků (OR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578 x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LAR – 10 článků (SO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 x 579 x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b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RALUX LINEAR 1200/600 (K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 x 1200 x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kov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DIK KLASIK 10 - 500x1000 (KLASI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 x 500 x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7"/>
          <p:cNvSpPr/>
          <p:nvPr/>
        </p:nvSpPr>
        <p:spPr>
          <a:xfrm>
            <a:off x="142920" y="1150920"/>
            <a:ext cx="11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Zvolená otopn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Přechodové křivky - Nábě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Obr_3"/>
          <p:cNvPicPr/>
          <p:nvPr/>
        </p:nvPicPr>
        <p:blipFill>
          <a:blip r:embed="rId1"/>
          <a:stretch/>
        </p:blipFill>
        <p:spPr>
          <a:xfrm>
            <a:off x="1008000" y="1122480"/>
            <a:ext cx="9369360" cy="60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Přechodové křivky - Chlad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Obr_4"/>
          <p:cNvPicPr/>
          <p:nvPr/>
        </p:nvPicPr>
        <p:blipFill>
          <a:blip r:embed="rId1"/>
          <a:stretch/>
        </p:blipFill>
        <p:spPr>
          <a:xfrm>
            <a:off x="934920" y="1170000"/>
            <a:ext cx="953928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76360" y="2174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7173"/>
                </a:solidFill>
                <a:latin typeface="Arial Narrow"/>
              </a:rPr>
              <a:t>Vyhodnocení tepelné setrvač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6000" y="1693800"/>
          <a:ext cx="5903640" cy="4965840"/>
        </p:xfrm>
        <a:graphic>
          <a:graphicData uri="http://schemas.openxmlformats.org/drawingml/2006/table">
            <a:tbl>
              <a:tblPr/>
              <a:tblGrid>
                <a:gridCol w="2033640"/>
                <a:gridCol w="630000"/>
                <a:gridCol w="647640"/>
                <a:gridCol w="649440"/>
                <a:gridCol w="647640"/>
                <a:gridCol w="647640"/>
                <a:gridCol w="647640"/>
              </a:tblGrid>
              <a:tr h="58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6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n90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τ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WF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LASIK 10 – 500 x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ALOR 500/110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LUX LINEAR 1200 x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ar 500/80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ion 500/95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912000" y="1693800"/>
          <a:ext cx="4032360" cy="4965840"/>
        </p:xfrm>
        <a:graphic>
          <a:graphicData uri="http://schemas.openxmlformats.org/drawingml/2006/table">
            <a:tbl>
              <a:tblPr/>
              <a:tblGrid>
                <a:gridCol w="2033640"/>
                <a:gridCol w="631800"/>
                <a:gridCol w="718920"/>
                <a:gridCol w="648000"/>
              </a:tblGrid>
              <a:tr h="58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opné těl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ch6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</a:t>
                      </a:r>
                      <a:r>
                        <a:rPr b="1" lang="cs-CZ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ch90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τ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[mi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KF 1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nuc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50 – přirozené vybíj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WF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,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LASIK 10 – 500 x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ALOR 500/110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LUX LINEAR 1200 x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ar 500/80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ion 500/95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7"/>
          <p:cNvSpPr/>
          <p:nvPr/>
        </p:nvSpPr>
        <p:spPr>
          <a:xfrm>
            <a:off x="2519280" y="1079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Nábě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920000" y="1079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Chladnu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76360" y="2174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7173"/>
                </a:solidFill>
                <a:latin typeface="Arial Narrow"/>
              </a:rPr>
              <a:t>Porovnání konstrukčních vlastnos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15920" y="1063800"/>
            <a:ext cx="11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buClr>
                <a:srgbClr val="707173"/>
              </a:buClr>
              <a:buFont typeface="Wingdings" charset="2"/>
              <a:buChar char="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7173"/>
                </a:solidFill>
                <a:latin typeface="Arial Narrow"/>
              </a:rPr>
              <a:t>Zvolená otopn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28800" y="1587600"/>
          <a:ext cx="9461520" cy="5532480"/>
        </p:xfrm>
        <a:graphic>
          <a:graphicData uri="http://schemas.openxmlformats.org/drawingml/2006/table">
            <a:tbl>
              <a:tblPr/>
              <a:tblGrid>
                <a:gridCol w="1182600"/>
                <a:gridCol w="1095480"/>
                <a:gridCol w="4454280"/>
                <a:gridCol w="922320"/>
                <a:gridCol w="1806840"/>
              </a:tblGrid>
              <a:tr h="1158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ýrob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ruh těles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značení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lkový tepelný výkon [W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ozměry HxVxD [mm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6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Člán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LOR3 500/110 – 10 článků (KALOR 3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8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 x 58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IADRU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YL 500/130 – 10 článků (STY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9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 x 58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OL C3 – 10 článků (ATO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7 x 600 x 4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X 500 – 10 článků (VO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690 x 8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LOB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L 500/80 – 10 článků (G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5 x 590 x 8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ZEHND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HARLESTON 3050 (CHARLESTON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 x 500 x 4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RM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4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RM X2 Profil 10-500x1000 (THERM X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DERU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GATREND K 10-500x1000 (K PROFI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URM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YGIENE 10-600x1000 (HYGIEN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 x 6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QUIN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NSA 11-500x1000 (SENS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 x 500 x 1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bkové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INGO (SWINGO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 x 1210 x 6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OV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OL 1160 x 600 (COO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 x 1152 x 6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ASC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M 11101-08 (BM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4 x 1186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RI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O-N 1160/600 (PRIMO-N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 x 116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2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OR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RALUX LINEAR COMFORT 1220/600 (KLT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cs-CZ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 x 1220 x 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2:56:52Z</dcterms:created>
  <dc:creator>Jindřich Boháč</dc:creator>
  <dc:description/>
  <dc:language>en-US</dc:language>
  <cp:lastModifiedBy>Jindřich Boháč</cp:lastModifiedBy>
  <cp:lastPrinted>2015-05-14T10:56:37Z</cp:lastPrinted>
  <dcterms:modified xsi:type="dcterms:W3CDTF">2016-10-11T07:14:29Z</dcterms:modified>
  <cp:revision>476</cp:revision>
  <dc:subject/>
  <dc:title>Snímek 1</dc:title>
</cp:coreProperties>
</file>